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7AF-E94B-48AA-BC9F-E1D5AED4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6F4-9DEC-4BFA-A119-8C8AAB91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9B1-643A-473C-ACD6-B15348CB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2D9-E55B-4423-A0C6-4944196C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8F09-F327-41D4-AE5A-7DAC90F5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F97E-3FC2-45A7-95D3-DACCE31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2BA6-511E-45B3-BE4E-1AE47FC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3209-6313-43EF-BC7C-6ED434C0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95CD-52E3-4467-BDD4-AB78884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D8C2-AFA5-4D0D-8A43-D82061B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EABC-16FA-49F8-AD4C-4F979CD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7B4-DCDC-47BC-89E6-331CACC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6AD0-1D89-4E1D-8D86-FEA6201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3666-8B12-4EBA-A0AB-3E3A68D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B9CB-D495-4E7C-AC6E-C8E27A22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B81B-22EA-41A3-8E55-07C43500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CF8F-6FF0-4BFE-A590-E379DE2D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A18-3943-4271-8ECE-B4FA3169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24B-756A-4071-AC0D-ADB2049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20A-BE45-4A3E-AD4E-A5D750E4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59E-30C2-4BAA-AB9C-3639DB2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3B2-C595-4D0F-8543-D730B48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B42-BE02-4061-AB14-214BDB1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135-F25C-4A2D-9393-3F157F1C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2BD8-3A4C-40A1-9240-150BF9059E4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461-087F-4964-BF16-E35C16393C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оветы педагогам по общению с деть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676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776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ислушаемся к советам   самих детей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дьте внимательны, когда в моей жизни наступает время большей ориентации на сверстников и старших ребят.  В это время их мнение для меня может быть важнее вашего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этот период я отношусь к вам более критически и сравниваю ваши слова с вашими поступ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е важно знать от вас, что правильно, а что нет. Но более всего мне важно увидеть в ваших поступках подтверждение того, понимаете ли вы сами что правильно, а что 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ак помочь тревожному ребенк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овышение самооцен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учение умению снимать мышечное напря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Отработка навыков уверенного поведения в конкретных ситуация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276360" cy="2641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2387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Скорая помощь» при работе с гиперактивным ребенко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лечь ребенка от его каприз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ложить выбор (другую возможную в данный момент деятель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дать неожиданный вопр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реагировать неожиданным для ребенка  образом (пошутить, повторить действие ребен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Скорая помощь» при работе с гиперактивным ребенко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слушать то, что хочет сказать ребенок (в противном случае он не услышит вас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матически, одними и теми же словами повторять многократно свою просьбу нейтральным тон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авить в комнате одного (если это безопасно для его здоровь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читать нотаций (ребенок все  равно их не услыш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настаивать,  на том, чтобы ребенок во что бы то ни стало принес извинения немедленн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Открытое письмо агрессивных детей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хотим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нам не делали постоянных замеча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ть, почему вам можно кричать, а нам-н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лать то,что хочется вам, а не н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ть, почему вы считаете виноватыми нас,  а не друг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вы нас научили справляться с гне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ему нельзя ломать игрушки, давать сдачи, громко кричать, визжать, обзываться, если очень хоч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больше всего нам хочется, чтобы нас любил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191120" y="4648320"/>
            <a:ext cx="323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Способы выражения (выплескивания) гне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омко спеть любимую песню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тать дротики в миш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рыгать на скакал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уя «стаканчик для криков», высказать все свои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кать мыльные пузы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ить цве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стрыми движениями руки стереть с дос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ирать бел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9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Способы выражения (выплескивания) гне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жаться от пола  максимальное количество раз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роить соревнование «Кто громко крикнет», «Кто выше прыгнет», «Кто быстрее пробежит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учать карандашом по пар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мкать несколько листов бумаги, а затем их выброс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ыстрыми движениями руки нарисовать обидчика, а затем зачирикать е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епить из пластилина фигуру обидчика и сломать е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1638360" cy="2181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2666880" y="4476600"/>
            <a:ext cx="28195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6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Чем проповедь выслушивать, мне лучше бы взгляну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 лучше проводить меня, чем указать мне пу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Глаза умнее слуха – поймут все без тру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лова порой запутаны – пример же никогд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от лучший проповедник, кто веру в жизнь прове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обро увидеть в действии –вот лучшее из шко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 если все мне рассказать, я выучу уро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о мне ясней движенье рук, чем быстрых слов пото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Должно быть можно верить и умным словес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Но я уж лучше погляжу, что делаешь ты с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друг я неправильно пойму прекрасный твой сов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Зато пойму как ты живешь: по правде или нет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ечная детская мудр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43434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9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9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9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9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900" fill="hold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Спустя сто лет уже не будет иметь никакого значения то, какой у меня автомобиль, в каком доме я жил, сколько денег у меня было или как выглядела моя одежда. Но возможно, этот мир станет чуточку лучше благодаря тому, что я был важным человеком в жизни одного ребенк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9621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поведи для взрослы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сравнивайте ребенка с другими деть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 имеет право быть другим и он единственный такой на  земле, неповторим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увства ребенка, как и ваши не вечны. Он, как и вы, не может злиться, ненавидеть или огорчаться постоянно. Это пройд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могите ребенку осознать, в чем именно состоит ощутимый вред от дурных привычек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реты часть способствуют их закреплени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0481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поведи для взросл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гласуйте требования, которые вы предъявляете к ребенку с его возрастными и психологическими особенност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огите ребенку осознать, чем его, на ваш взгляд, поведение вредит ему и окружающим, 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ытайтесь выяснить  причину этого поведения. Часто он и сам не зна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мните, что ребенок не отвечает за проблемы взросл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ните, что ребенок учится у вас и хочет быть похожим на ва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57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поведи для взросл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дьте искренне с ребенком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да и во всем: когда выражаете свои чувства, когда слушаете его, когда делаете замечание и пр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добряете – одобряйте искренне. Радуйтесь искреннее. Если  вы говорите и думаете одно, а чувствуете совсем другое, ребенок это видит и испытывает смятение и неуверенность во все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7199280" y="4267080"/>
            <a:ext cx="1944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ислушаемся к советам   самих детей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!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бойтесь быть твердыми со мной. Я предпочитаю именно такой подход. Это позволяет мне определить свое мест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зволяйте моим дурным привычкам привлекать ко мне чрезмерную долю вашего внимания. Это только вдохновит меня на их продолжени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делайте за меня то, что я в состоянии сделать для себя с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требуйте от меня немедленных объяснений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чем я сделал то или иное. Я иногда  и сам не знаю, почему поступаю так, а не инач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648320" y="4479840"/>
            <a:ext cx="3962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ислушаемся к советам   самих детей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давайте обещаний, которых вы не можете выполнить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это поколеблет мою веру в ва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будьте непоследователь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Это сбивает меня с толку и заставляет упорнее пытаться во всех случаях оставить последнее слово за соб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пытайтесь читать мне наставления и нотации. Вы будете удивлены, открыв, как великолепно я знаю, что такое хорошо и что такое плох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324480" y="4334040"/>
            <a:ext cx="21830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7550"/>
                            </p:stCondLst>
                            <p:childTnLst>
                              <p:par>
                                <p:cTn id="1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96550"/>
                            </p:stCondLst>
                            <p:childTnLst>
                              <p:par>
                                <p:cTn id="2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ислушаемся к советам   самих детей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вы говорите мне, что любите меня, а потом просите сделать что-то для вас, я думаю, что нахожусь на рынке. Но тогда я с вами буду торговаться и, поверьте- я окажусь с прибыл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заставляйте меня чувствовать, что мои поступки – смертный грех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имею право делать ошибки, исправлять их и извлекать уроки. Но если вы будете меня убеждать, что я ни на что не годен, то в будущем я ,вообще, буду бояться что-то делать, даже зная, что э то правильн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рислушаемся к советам   самих детей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пытайтесь обсуждать мое поведение  в самый разгар конфликта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некоторым объективным причинам мой слух притупляется в это время,   а мое желание сотрудничать с вами становиться намного слабее. Будет нормально, сели вы предпримете определенные шаги, но поговорите со мной об том несколько позж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ытайтесь от меня отделаться, когда я задаю вам откровенные вопросы. Если вы не будете отвечать на них, я, вообще, перестану задавать их вам и буду искать информацию где-то на сторо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28954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1T03:08:4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